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5EB-7167-4E82-9B1C-92302832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B6A-646C-4C79-9BD4-8B03CDB8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1F0-6C0E-464F-8022-5104E9AE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97C-0C0F-4352-A1F2-14DA553C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7A9-5044-4EC0-8F42-63B32B81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C32-5870-480F-A3DC-4960ECC8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96D-C0AA-42AB-B710-D5B70340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F66-97E2-407E-B7E3-D3AA3767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B28-0DC2-4A2B-AA05-4789090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04F-88FE-48CB-AEA0-12F7C544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30A-EE53-4E3B-9716-308AACA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600-050B-4345-AD7E-E4C5D65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5BEE-7A9C-4EA9-BDA5-363D2E6063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gi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2.pn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ELEKTRIČNA STRUJA</a:t>
            </a: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Što je jednostavan strujni kru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attery Power Supply Cell Electrical Circuit Symbol Clip Art"/>
          <p:cNvPicPr/>
          <p:nvPr/>
        </p:nvPicPr>
        <p:blipFill>
          <a:blip r:embed="rId1"/>
          <a:stretch/>
        </p:blipFill>
        <p:spPr>
          <a:xfrm>
            <a:off x="12612600" y="-26052480"/>
            <a:ext cx="2857680" cy="2638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55640" y="1444680"/>
            <a:ext cx="7632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rujni vodovi – ž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a sklopka (prekidač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zatvorena sklopka (struja teč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- otvorena sklopka (struja ne teče)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786040" y="4292640"/>
            <a:ext cx="282888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2738520" y="5418000"/>
            <a:ext cx="287640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Trošilo (potrošač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04840" y="3187800"/>
            <a:ext cx="2459160" cy="87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blogs.smithsonianmag.com/aroundthemall/files/2008/12/edisons-new-years-eve-lightbulb.jpg"/>
          <p:cNvPicPr/>
          <p:nvPr/>
        </p:nvPicPr>
        <p:blipFill>
          <a:blip r:embed="rId3"/>
          <a:stretch/>
        </p:blipFill>
        <p:spPr>
          <a:xfrm>
            <a:off x="5148360" y="1341360"/>
            <a:ext cx="348588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1628280"/>
            <a:ext cx="8147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hema jednostavnog strujnog krug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3083040" y="2205000"/>
            <a:ext cx="2890800" cy="4140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električne uređaje koristite kod kuć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potrebno učiniti da bi uređaj proradi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daje energiju, potrebnu za njihov ra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emu služe priključne žice i električni vodov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žaruljica i bater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trebamo učiniti sa žaruljicom, da ona počne svijetl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i osnovni uvjet moramo ispuniti, da bi žaruljica svijetlil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žemo li nešto promijen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napShot(182).jpg"/>
          <p:cNvPicPr/>
          <p:nvPr/>
        </p:nvPicPr>
        <p:blipFill>
          <a:blip r:embed="rId1"/>
          <a:stretch/>
        </p:blipFill>
        <p:spPr>
          <a:xfrm>
            <a:off x="395280" y="1197000"/>
            <a:ext cx="8412120" cy="4732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aruljica svijetli kada njome, žicama i baterijom zatvori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trujni kru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u ulogu ima u tom krugu bateri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aterija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vor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električne energi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truja protječe strujnim krug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 jednog priključka baterije, kroz žaruljicu do drugog priključka  bateri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napShot(236).jpg"/>
          <p:cNvPicPr/>
          <p:nvPr/>
        </p:nvPicPr>
        <p:blipFill>
          <a:blip r:embed="rId1"/>
          <a:stretch/>
        </p:blipFill>
        <p:spPr>
          <a:xfrm>
            <a:off x="1042920" y="2060640"/>
            <a:ext cx="7093080" cy="3989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ključnice baterije nazivaju s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lov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Nazivamo ih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zitivan pol (+)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negativan pol (-)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o izvor električne energije, uz bateriju, mogu nam služiti i  akumulator, dinamo, generator, solarna ćelija,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žaruljici se električna energija pretvara u svjetlosnu i toplinsku energi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aruljica u strujnom krugu ima ulog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trošil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hr-HR" sz="1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ektrična struj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prenosi energiju od izvora do trošila, a trošilo tu električnu energiju pretvara u druge oblike energi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rošila su, zapravo,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tvarač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električne energi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dijelove ima strujni kru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poj izvora električne energije, električne sklopke i trošila međusobno povezanih spojnim žicama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jednostavan strujni kru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ijelovi strujnog kruga najčešće su izvor, strujni vodovi, trošilo i prekidač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i jednostavnijeg crtanja složenih strujnih krugova, koriste se oznake dijelova strujnog krug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ater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6"/>
          <a:stretch/>
        </p:blipFill>
        <p:spPr>
          <a:xfrm>
            <a:off x="3905280" y="5124600"/>
            <a:ext cx="819000" cy="887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6:34:50Z</dcterms:created>
  <dc:creator>Zdenka</dc:creator>
  <dc:description/>
  <dc:language>en-US</dc:language>
  <cp:lastModifiedBy>Zdenko</cp:lastModifiedBy>
  <dcterms:modified xsi:type="dcterms:W3CDTF">2014-07-18T09:21:13Z</dcterms:modified>
  <cp:revision>46</cp:revision>
  <dc:subject/>
  <dc:title>ELEKTRIČNA STRUJA</dc:title>
</cp:coreProperties>
</file>